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move the slide</a:t>
            </a:r>
            <a:endParaRPr b="0" lang="en-US" sz="3900" spc="-1" strike="noStrike">
              <a:solidFill>
                <a:srgbClr val="ffffff"/>
              </a:solidFill>
              <a:latin typeface="Arial"/>
            </a:endParaRPr>
          </a:p>
        </p:txBody>
      </p:sp>
      <p:sp>
        <p:nvSpPr>
          <p:cNvPr id="1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7D466-120F-4C5A-9376-AD099387AA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60FD4-0564-45CA-B593-F0D343661FE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2CB99-3E82-4190-A6A0-A9EEC3663B6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learn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Fun and interactive program provide engaging graphics and a wide variety of activiti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8C914-22CF-420F-B748-BEE7CB272B5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nguage 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pplications try to engage and encourage students to learn critical skills in a fun and creative environmen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8FF8F-7720-4D5C-9618-8E8B10BE0D3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applications provide skills practice and problem-solving activiti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F41ED-7B41-478F-BAAE-BFB6378F7B4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eval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id softw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effective way-download free trial vers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49779-D107-4990-A775-D19CC028451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12 Educational Software Applica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can examine their skills in a risk free environment, get instant feedback, testing and review.</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mber and quality software applications have dramatically increased over the yea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ailable in many designs, form and curriculu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special features and when will it be more effectiv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F76F3-6060-40B7-B39A-B2681F3271E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I</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more than 20 yea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a computer to enhance instr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6212F-4CDD-4409-9438-E1BD6D61DF2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ll &amp; Practi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receive instant feedback on correct and incorrect answ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t in features that once a skill is mastered, the computer moves the student to the next level</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EBDD0-350B-4E93-A284-A09DAEBE772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ucational Gam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ective way to teach information through repetition and practi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find it a fun way to lear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ous games create problem-solving to use higher order thinking skills to find solution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5E2BF-8E8E-496B-AF32-83B948E0B29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torial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igned to tutor or instruc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BBF57-CE0E-4672-96CD-D9F4C942789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ul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r can change the conditions, cause things to happen and make decisions based on the criteria provided to simulate real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DE3A4-92D0-4EE9-A6EC-9491DBB85C2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ulation Example SimCity</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design cities, communities, neighborhoods and businesses, including infrastructure, such as telephone lines, buildings and more.  As the cities grow in size and complexity, natural disasters and other realistic problems occur continuously requiring students to use all available city resources, including financial to keep the cities run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3E09A-906D-483F-B69A-2D84DF14971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abi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materials such as graphics, animation and video also make learning easier for student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DF265B1-1C75-4FC7-A1C5-58CB9A3FA9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3"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FDC8B4D-DFDF-4A30-A03A-DFCEAE8C1E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6"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BE70FB2-4CD6-4DAE-B19C-B325ED0AA05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51"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6DCFCA7-7A82-49CD-9D3A-BD5A96C8510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6D6775-B1AD-4A8E-B314-BC04A8EF35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79"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FD1815-D231-4839-AFE2-410B3C5BD5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1"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268885-1CB5-480B-AF7F-F5A0CF7F0A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3"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8C2A83-C64E-4F18-A2E9-13C76ECC99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A3D1DC-C450-4F51-A53A-38E2FFD3A6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9EE817-869D-4521-B208-D1AA4AFF42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8"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207769-13AA-49F9-80CB-D03B2F9FC0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2"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E544A78-A212-435F-9329-02C76BB008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2"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88E143-1C89-43DD-B52B-5837CBD492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6"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8"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36FD61-497E-4EB9-80F8-96F8215747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0"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95479B-DF8F-44A3-922D-C4FD350016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3"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533614-2BDF-484D-A40A-7AC2CE3B1F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8"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2E277C-B1D2-4F9F-BB07-C3C592496E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4"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99F14F2-0D0F-4322-9736-65A5CF5A1C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6"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7E6C463-C744-4210-B432-8679B44015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4335C6E-EFD8-432E-9BE2-E038CB86B8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0593643-22F6-4212-92F1-63B4E6BD9C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1"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9B8076E-54CE-4F13-B04D-AD5257A3E6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5"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7C4AB1C-9EF2-494D-8177-E291D35C17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9"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92E0F5F-1423-4EF1-B9B2-E83735829E9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C3DBC-6CA1-43BC-8EE0-C06554CEEAE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 name="Line 6"/>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Line 7"/>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228600" y="457200"/>
            <a:ext cx="1246320" cy="1371600"/>
            <a:chOff x="228600" y="457200"/>
            <a:chExt cx="1246320" cy="1371600"/>
          </a:xfrm>
        </p:grpSpPr>
        <p:sp>
          <p:nvSpPr>
            <p:cNvPr id="7" name="Rectangle 9"/>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Rectangle 10"/>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Rectangle 11"/>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Rectangle 12"/>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Rectangle 13"/>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Rectangle 14"/>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Rectangle 15"/>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Rectangle 16"/>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Rectangle 17"/>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Rectangle 18"/>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Rectangle 19"/>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Rectangle 20"/>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Rectangle 21"/>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 name="Line 7"/>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8" name="Group 8"/>
          <p:cNvGrpSpPr/>
          <p:nvPr/>
        </p:nvGrpSpPr>
        <p:grpSpPr>
          <a:xfrm>
            <a:off x="228600" y="1447920"/>
            <a:ext cx="2286000" cy="2514600"/>
            <a:chOff x="228600" y="1447920"/>
            <a:chExt cx="2286000" cy="2514600"/>
          </a:xfrm>
        </p:grpSpPr>
        <p:sp>
          <p:nvSpPr>
            <p:cNvPr id="59" name="Rectangle 9"/>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Rectangle 10"/>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 name="Rectangle 11"/>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Rectangle 12"/>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Rectangle 13"/>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Rectangle 14"/>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Rectangle 15"/>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Rectangle 16"/>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Rectangle 17"/>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Rectangle 18"/>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Rectangle 19"/>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Rectangle 20"/>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Rectangle 21"/>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2" name="Line 22"/>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74"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75"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974D7-E568-4C3F-8C0C-E459F0A8540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2895120" y="1371600"/>
            <a:ext cx="586764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Arial"/>
              </a:rPr>
              <a:t>EDUC 784.1</a:t>
            </a:r>
            <a:endParaRPr b="0" lang="en-US" sz="4500" spc="-1" strike="noStrike">
              <a:solidFill>
                <a:srgbClr val="ffffff"/>
              </a:solidFill>
              <a:latin typeface="Arial"/>
            </a:endParaRPr>
          </a:p>
        </p:txBody>
      </p:sp>
      <p:sp>
        <p:nvSpPr>
          <p:cNvPr id="122" name="PlaceHolder 2"/>
          <p:cNvSpPr>
            <a:spLocks noGrp="1"/>
          </p:cNvSpPr>
          <p:nvPr>
            <p:ph type="subTitle"/>
          </p:nvPr>
        </p:nvSpPr>
        <p:spPr>
          <a:xfrm>
            <a:off x="533520" y="3504960"/>
            <a:ext cx="8229600" cy="2438280"/>
          </a:xfrm>
          <a:prstGeom prst="rect">
            <a:avLst/>
          </a:prstGeom>
          <a:noFill/>
          <a:ln w="0">
            <a:noFill/>
          </a:ln>
        </p:spPr>
        <p:txBody>
          <a:bodyPr anchor="t">
            <a:noAutofit/>
          </a:bodyPr>
          <a:p>
            <a:pPr indent="0" algn="ctr">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Educational Software &amp; Tech Standards</a:t>
            </a:r>
            <a:endParaRPr b="0" lang="en-US" sz="2500" spc="-1" strike="noStrike">
              <a:solidFill>
                <a:srgbClr val="ffffff"/>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5:10-9:10 p.m.</a:t>
            </a:r>
            <a:endParaRPr b="0" lang="en-US" sz="2500" spc="-1" strike="noStrike">
              <a:solidFill>
                <a:srgbClr val="ffffff"/>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Instructor: Valrie Edwards</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Educational Software</a:t>
            </a:r>
            <a:endParaRPr b="0" lang="en-US" sz="3900" spc="-1" strike="noStrike">
              <a:solidFill>
                <a:srgbClr val="ffffff"/>
              </a:solidFill>
              <a:latin typeface="Arial"/>
            </a:endParaRPr>
          </a:p>
        </p:txBody>
      </p:sp>
      <p:sp>
        <p:nvSpPr>
          <p:cNvPr id="140"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ity Software</a:t>
            </a:r>
            <a:endParaRPr b="0" lang="en-US" sz="28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llows students to start with a blank canvas or templates and use their imaginations and ingenuity using the tools provided</a:t>
            </a:r>
            <a:endParaRPr b="0" lang="en-US" sz="25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Examples: Microsoft Office, Hyperstudio, Inspiration, Kidspiration, Photoshop, Kid Pix, Storybook Weaver, Adobe Photo Elements </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ritical Thinking Software</a:t>
            </a:r>
            <a:endParaRPr b="0" lang="en-US" sz="3900" spc="-1" strike="noStrike">
              <a:solidFill>
                <a:srgbClr val="ffffff"/>
              </a:solidFill>
              <a:latin typeface="Arial"/>
            </a:endParaRPr>
          </a:p>
        </p:txBody>
      </p:sp>
      <p:sp>
        <p:nvSpPr>
          <p:cNvPr id="142" name="PlaceHolder 2"/>
          <p:cNvSpPr>
            <a:spLocks noGrp="1"/>
          </p:cNvSpPr>
          <p:nvPr>
            <p:ph/>
          </p:nvPr>
        </p:nvSpPr>
        <p:spPr>
          <a:xfrm>
            <a:off x="380880" y="2057040"/>
            <a:ext cx="8305920" cy="48006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tions that stimulate students to use critical thinking skills in a variety of ways.</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udents are often presented with a problem and a variety of ways to solve the problem.</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s: Carmen Sandiego Series, Super Solvers Mission T.H.I.N.K., GeoSafari Series, Zoombini</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Early Learning Software</a:t>
            </a:r>
            <a:endParaRPr b="0" lang="en-US" sz="3900" spc="-1" strike="noStrike">
              <a:solidFill>
                <a:srgbClr val="ffffff"/>
              </a:solidFill>
              <a:latin typeface="Arial"/>
            </a:endParaRPr>
          </a:p>
        </p:txBody>
      </p:sp>
      <p:sp>
        <p:nvSpPr>
          <p:cNvPr id="144"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to provide students in grades K-3 with a development head start in reading, language arts, math, science and other curriculum areas.</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s: Kidspiration, Millie’s Math House, Living Books Library, Sammy’s Science House, Jump Start Series, Reader Rabbit’s Reading</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ESL/Foreign Language</a:t>
            </a:r>
            <a:endParaRPr b="0" lang="en-US" sz="3900" spc="-1" strike="noStrike">
              <a:solidFill>
                <a:srgbClr val="ffffff"/>
              </a:solidFill>
              <a:latin typeface="Arial"/>
            </a:endParaRPr>
          </a:p>
        </p:txBody>
      </p:sp>
      <p:sp>
        <p:nvSpPr>
          <p:cNvPr id="146"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ide K-12 students with assistance in learning English and other languages.</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able students to practice their skills in a non-threatening environment</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s: English Express Deluxe, The Heartsoft BestSellers ESl Vers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Language Arts Software</a:t>
            </a:r>
            <a:endParaRPr b="0" lang="en-US" sz="3900" spc="-1" strike="noStrike">
              <a:solidFill>
                <a:srgbClr val="ffffff"/>
              </a:solidFill>
              <a:latin typeface="Arial"/>
            </a:endParaRPr>
          </a:p>
        </p:txBody>
      </p:sp>
      <p:sp>
        <p:nvSpPr>
          <p:cNvPr id="148"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vailable for all grades and supports student learning throughout the reading and writing process.</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s: Reading Blaster, mPOwer, Cornerstone Reading, Orchard Reading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Math &amp; Science Software</a:t>
            </a:r>
            <a:endParaRPr b="0" lang="en-US" sz="3900" spc="-1" strike="noStrike">
              <a:solidFill>
                <a:srgbClr val="ffffff"/>
              </a:solidFill>
              <a:latin typeface="Arial"/>
            </a:endParaRPr>
          </a:p>
        </p:txBody>
      </p:sp>
      <p:sp>
        <p:nvSpPr>
          <p:cNvPr id="150"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h applications help students master basic and complex mathematics for all level.</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ce applications assist students in learning a wide variety of science concepts.</a:t>
            </a:r>
            <a:endParaRPr b="0" lang="en-US" sz="28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Multimedia science applications can assist in mastering difficult or abstract concepts by providing a visual representation</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Math &amp; Science Software</a:t>
            </a:r>
            <a:endParaRPr b="0" lang="en-US" sz="3900" spc="-1" strike="noStrike">
              <a:solidFill>
                <a:srgbClr val="ffffff"/>
              </a:solidFill>
              <a:latin typeface="Arial"/>
            </a:endParaRPr>
          </a:p>
        </p:txBody>
      </p:sp>
      <p:sp>
        <p:nvSpPr>
          <p:cNvPr id="152"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h: Math Advantage Series, Geometer Sketchpad, Math Blaster, Math Workshop Deluxe, Mighty Math, Tessallation Exploration, Mastering Algebra, Cornerstone Math</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ce: Thinkin’ Science, The Ultimate Human Body, GeoSafari, Science Cour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Social Studies Software</a:t>
            </a:r>
            <a:endParaRPr b="0" lang="en-US" sz="3900" spc="-1" strike="noStrike">
              <a:solidFill>
                <a:srgbClr val="ffffff"/>
              </a:solidFill>
              <a:latin typeface="Arial"/>
            </a:endParaRPr>
          </a:p>
        </p:txBody>
      </p:sp>
      <p:sp>
        <p:nvSpPr>
          <p:cNvPr id="154"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courages higher-order thinking skills, provide reinforcement of facts and allow students to define their own path.</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story of the World, Oregon Trail, Timeliner, American History Seri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Software Evaluation</a:t>
            </a:r>
            <a:endParaRPr b="0" lang="en-US" sz="3900" spc="-1" strike="noStrike">
              <a:solidFill>
                <a:srgbClr val="ffffff"/>
              </a:solidFill>
              <a:latin typeface="Arial"/>
            </a:endParaRPr>
          </a:p>
        </p:txBody>
      </p:sp>
      <p:sp>
        <p:nvSpPr>
          <p:cNvPr id="156" name="PlaceHolder 2"/>
          <p:cNvSpPr>
            <a:spLocks noGrp="1"/>
          </p:cNvSpPr>
          <p:nvPr>
            <p:ph/>
          </p:nvPr>
        </p:nvSpPr>
        <p:spPr>
          <a:xfrm>
            <a:off x="0" y="1905120"/>
            <a:ext cx="9144000" cy="4952880"/>
          </a:xfrm>
          <a:prstGeom prst="rect">
            <a:avLst/>
          </a:prstGeom>
          <a:noFill/>
          <a:ln w="0">
            <a:noFill/>
          </a:ln>
        </p:spPr>
        <p:txBody>
          <a:bodyPr anchor="t">
            <a:normAutofit/>
          </a:bodyPr>
          <a:p>
            <a:pPr marL="343080" indent="-34308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aluate for appropriateness</a:t>
            </a:r>
            <a:endParaRPr b="0" lang="en-US" sz="2400" spc="-1" strike="noStrike">
              <a:solidFill>
                <a:srgbClr val="ffffff"/>
              </a:solidFill>
              <a:latin typeface="Arial"/>
            </a:endParaRPr>
          </a:p>
          <a:p>
            <a:pPr marL="343080" indent="-34308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view the accuracy of the content for its validity-most important area</a:t>
            </a:r>
            <a:endParaRPr b="0" lang="en-US" sz="2400" spc="-1" strike="noStrike">
              <a:solidFill>
                <a:srgbClr val="ffffff"/>
              </a:solidFill>
              <a:latin typeface="Arial"/>
            </a:endParaRPr>
          </a:p>
          <a:p>
            <a:pPr marL="343080" indent="-34308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ider its relevance to the curriculum standards and goals</a:t>
            </a:r>
            <a:endParaRPr b="0" lang="en-US" sz="2400" spc="-1" strike="noStrike">
              <a:solidFill>
                <a:srgbClr val="ffffff"/>
              </a:solidFill>
              <a:latin typeface="Arial"/>
            </a:endParaRPr>
          </a:p>
          <a:p>
            <a:pPr marL="343080" indent="-34308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ider the technical support and documentation the software offers</a:t>
            </a:r>
            <a:endParaRPr b="0" lang="en-US" sz="2400" spc="-1" strike="noStrike">
              <a:solidFill>
                <a:srgbClr val="ffffff"/>
              </a:solidFill>
              <a:latin typeface="Arial"/>
            </a:endParaRPr>
          </a:p>
          <a:p>
            <a:pPr marL="343080" indent="-34308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ok at the ability or academic level</a:t>
            </a:r>
            <a:endParaRPr b="0" lang="en-US" sz="2400" spc="-1" strike="noStrike">
              <a:solidFill>
                <a:srgbClr val="ffffff"/>
              </a:solidFill>
              <a:latin typeface="Arial"/>
            </a:endParaRPr>
          </a:p>
          <a:p>
            <a:pPr marL="343080" indent="-34308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well does it present itself and how well it works-user-friendliness</a:t>
            </a:r>
            <a:endParaRPr b="0" lang="en-US" sz="2400" spc="-1" strike="noStrike">
              <a:solidFill>
                <a:srgbClr val="ffffff"/>
              </a:solidFill>
              <a:latin typeface="Arial"/>
            </a:endParaRPr>
          </a:p>
          <a:p>
            <a:pPr marL="343080" indent="-34308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tain student feedback</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a:rPr>
              <a:t>K-12 Educational Software Applications</a:t>
            </a:r>
            <a:endParaRPr b="0" lang="en-US" sz="3500" spc="-1" strike="noStrike">
              <a:solidFill>
                <a:srgbClr val="ffffff"/>
              </a:solidFill>
              <a:latin typeface="Arial"/>
            </a:endParaRPr>
          </a:p>
        </p:txBody>
      </p:sp>
      <p:sp>
        <p:nvSpPr>
          <p:cNvPr id="124"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educational software is used to support teaching and learning of subject related content.</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active multimedia applications enrich the learning process by providing individualized instruction and explora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omputer Assisted Instruction</a:t>
            </a:r>
            <a:endParaRPr b="0" lang="en-US" sz="3900" spc="-1" strike="noStrike">
              <a:solidFill>
                <a:srgbClr val="ffffff"/>
              </a:solidFill>
              <a:latin typeface="Arial"/>
            </a:endParaRPr>
          </a:p>
        </p:txBody>
      </p:sp>
      <p:sp>
        <p:nvSpPr>
          <p:cNvPr id="126"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ftware designed to help teach facts, information and or skills associated with subject-related material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 names:</a:t>
            </a:r>
            <a:endParaRPr b="0" lang="en-US" sz="28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BI-Computer-based instruction</a:t>
            </a:r>
            <a:endParaRPr b="0" lang="en-US" sz="25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AL-Computer-aided learning</a:t>
            </a:r>
            <a:endParaRPr b="0" lang="en-US" sz="25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Drill &amp; Practice Software</a:t>
            </a:r>
            <a:endParaRPr b="0" lang="en-US" sz="3900" spc="-1" strike="noStrike">
              <a:solidFill>
                <a:srgbClr val="ffffff"/>
              </a:solidFill>
              <a:latin typeface="Arial"/>
            </a:endParaRPr>
          </a:p>
        </p:txBody>
      </p:sp>
      <p:sp>
        <p:nvSpPr>
          <p:cNvPr id="128"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ftware that first supplies factual information and then through repetitive exercises allows students to continue work on the specific materials to remember the information/skills</a:t>
            </a:r>
            <a:endParaRPr b="0" lang="en-US" sz="28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ffective for learning basic skills and remediation</a:t>
            </a:r>
            <a:endParaRPr b="0" lang="en-US" sz="28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other name:</a:t>
            </a:r>
            <a:endParaRPr b="0" lang="en-US" sz="2800" spc="-1" strike="noStrike">
              <a:solidFill>
                <a:srgbClr val="ffffff"/>
              </a:solidFill>
              <a:latin typeface="Arial"/>
            </a:endParaRPr>
          </a:p>
          <a:p>
            <a:pPr lvl="1" marL="743040" indent="-285840">
              <a:lnSpc>
                <a:spcPct val="90000"/>
              </a:lnSpc>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kills-reinforcement software</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Educational Games</a:t>
            </a:r>
            <a:endParaRPr b="0" lang="en-US" sz="3900" spc="-1" strike="noStrike">
              <a:solidFill>
                <a:srgbClr val="ffffff"/>
              </a:solidFill>
              <a:latin typeface="Arial"/>
            </a:endParaRPr>
          </a:p>
        </p:txBody>
      </p:sp>
      <p:sp>
        <p:nvSpPr>
          <p:cNvPr id="130" name="PlaceHolder 2"/>
          <p:cNvSpPr>
            <a:spLocks noGrp="1"/>
          </p:cNvSpPr>
          <p:nvPr>
            <p:ph/>
          </p:nvPr>
        </p:nvSpPr>
        <p:spPr>
          <a:xfrm>
            <a:off x="0" y="1599840"/>
            <a:ext cx="9144000" cy="5257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jority of educational games available as CD-Roms or DVD-Roms and on the Web</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ually has a set of rules and students can compete against other students or the game itself.</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men Sandiego- students chase Carmen Sandiego around the world while learning geography, cultures, astronomy, music and histor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Tutorials</a:t>
            </a:r>
            <a:endParaRPr b="0" lang="en-US" sz="3900" spc="-1" strike="noStrike">
              <a:solidFill>
                <a:srgbClr val="ffffff"/>
              </a:solidFill>
              <a:latin typeface="Arial"/>
            </a:endParaRPr>
          </a:p>
        </p:txBody>
      </p:sp>
      <p:sp>
        <p:nvSpPr>
          <p:cNvPr id="132"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aching program designed to help individuals learn how to use a product or concept.</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software products contain built-in tutorials to teach you how to use the softwar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a:rPr>
              <a:t>Educational Computer Simulations</a:t>
            </a:r>
            <a:endParaRPr b="0" lang="en-US" sz="3500" spc="-1" strike="noStrike">
              <a:solidFill>
                <a:srgbClr val="ffffff"/>
              </a:solidFill>
              <a:latin typeface="Arial"/>
            </a:endParaRPr>
          </a:p>
        </p:txBody>
      </p:sp>
      <p:sp>
        <p:nvSpPr>
          <p:cNvPr id="134"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uterized model of real life that represents a physical or simulated process.</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fer learners the opportunity to manipulate variable that affect the outcomes of the experien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Simulations</a:t>
            </a:r>
            <a:endParaRPr b="0" lang="en-US" sz="3900" spc="-1" strike="noStrike">
              <a:solidFill>
                <a:srgbClr val="ffffff"/>
              </a:solidFill>
              <a:latin typeface="Arial"/>
            </a:endParaRPr>
          </a:p>
        </p:txBody>
      </p:sp>
      <p:sp>
        <p:nvSpPr>
          <p:cNvPr id="136"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mCity, Sim Theme Park &amp; Sim Coaster let students design, interact and provide more accurate explanations and examples of real life.</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mCity is very popular in educ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a:rPr>
              <a:t>Software for Students with Disabilities</a:t>
            </a:r>
            <a:endParaRPr b="0" lang="en-US" sz="3500" spc="-1" strike="noStrike">
              <a:solidFill>
                <a:srgbClr val="ffffff"/>
              </a:solidFill>
              <a:latin typeface="Arial"/>
            </a:endParaRPr>
          </a:p>
        </p:txBody>
      </p:sp>
      <p:sp>
        <p:nvSpPr>
          <p:cNvPr id="138"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ducational software offers unique advantage to students with physical impairments and learning disabilities</a:t>
            </a:r>
            <a:endParaRPr b="0" lang="en-US" sz="2400" spc="-1" strike="noStrike">
              <a:solidFill>
                <a:srgbClr val="ffffff"/>
              </a:solidFill>
              <a:latin typeface="Arial"/>
            </a:endParaRPr>
          </a:p>
          <a:p>
            <a:pPr marL="343080" indent="-34308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sually impaired students benefit from the audio capabilities of multimedia applications as well as the use of graphics and large font sizes.</a:t>
            </a:r>
            <a:endParaRPr b="0" lang="en-US" sz="2400" spc="-1" strike="noStrike">
              <a:solidFill>
                <a:srgbClr val="ffffff"/>
              </a:solidFill>
              <a:latin typeface="Arial"/>
            </a:endParaRPr>
          </a:p>
          <a:p>
            <a:pPr marL="343080" indent="-34308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ring impaired students benefit from graphics, animation and videos.</a:t>
            </a:r>
            <a:endParaRPr b="0" lang="en-US" sz="2400" spc="-1" strike="noStrike">
              <a:solidFill>
                <a:srgbClr val="ffffff"/>
              </a:solidFill>
              <a:latin typeface="Arial"/>
            </a:endParaRPr>
          </a:p>
          <a:p>
            <a:pPr marL="343080" indent="-34308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 software companies also offer closed captioning or sign languag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4T13:06:41Z</dcterms:created>
  <dc:creator>vedwards</dc:creator>
  <dc:description/>
  <dc:language>en-US</dc:language>
  <cp:lastModifiedBy>Valrie Edwards</cp:lastModifiedBy>
  <dcterms:modified xsi:type="dcterms:W3CDTF">2010-07-28T12:41:13Z</dcterms:modified>
  <cp:revision>25</cp:revision>
  <dc:subject/>
  <dc:title>EDUC 784.1 &amp; 784.2</dc:title>
</cp:coreProperties>
</file>